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369-C122-47AD-A138-D8C8362F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703-D7A6-4CFB-B0BA-72B6D59A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A8859-3220-4149-BB46-49D7AC11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E417A-D7FD-4925-BAB5-D7552CF7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0AF03-4113-4237-A4B2-5602DC2A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FCE2B-5D10-4459-9D9E-E4D2566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CD3CF-A4A1-4C45-8CBC-34CAFF3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B0610-D1DC-4FE1-A8C2-5BE17E21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3D246-53C8-4A95-92EA-96B16B99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F1A19-0759-4DF9-AC1F-19C6C4B6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D5422-FE59-4B79-BBC3-2B543E10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2A705-FD62-4DA3-87E4-D53F8C52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9FD-1EAB-46C6-B00A-84D5E177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B10B5-B56B-43CE-9A36-AB47EC9E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B5870-8BE3-4D65-B56C-67A30866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9F319-3896-49B5-963C-494D059A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21852-E0B5-47CA-8BCA-63EF9DC6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317E8-3B2E-4B11-87BA-081C801E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18E42-19BA-49C2-80E3-B085920B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14F67-FFDA-40D4-9F37-749D96F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09DDD-F4E4-416A-A5DB-D9FA356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B5678-71A7-4F88-A27F-6E50AAD2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77AF5-6666-437E-B44D-F632077D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DF5-5690-418A-B85B-92E9FFC3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84CDC-DF21-45CF-98DC-27417714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EDA98-53CD-4C90-AE59-AD07A02D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94BF6-76F5-42D9-836C-C65DEC8A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C897F-3448-4324-BF50-3772BD9D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08188-44E0-4170-A918-A021F8EE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AA3D2-DBD0-4CB8-80C9-DF91DD37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ACDB3-FE38-4E32-8AC5-CF8447AC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91E4D-491A-40BE-A333-4A39374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6856F-B400-4283-B135-F5FEEB24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DCB59-1D27-4C06-98C8-CBC80E6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D759-B9FE-41D9-920E-CD4D98DF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7451E-3BA7-4154-99F9-84E3A1AD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513D7-2197-4F14-9A6D-146A93B0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9104E-38AF-4434-946E-A6B2C32D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2FADC-6A49-451C-ACC0-C8269975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330BB-4CA2-4E03-852D-D2B6F2CB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D22DE-88F5-401A-8A3B-4EF377F9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CC165-12F1-4F15-86B8-FA64F2DC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27844-601B-4170-BB9A-4721A885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60182-AA3F-4A7E-AA53-538E0E24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3E7F8-5F38-4F4B-AA7D-449CC4F4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8FEC-1A0C-42A9-A39E-29E5E865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F0E51-EC08-4194-A0A1-A64D4C6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E1E22-784A-40D3-ABC3-41B699FA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0207F-A77D-4C6B-955F-4C006499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625CF-D7E6-408E-8659-E93D77F4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5EB16-A51F-4A6B-AE45-45E328A0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7EB1A-1099-4EDE-B043-F75A843B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55305-BEB9-42FE-9004-160E4623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2F241-25C3-425F-B513-8BAC6CFE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EB9A4-3293-47B0-9735-27C071BA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F768F-ED2A-4B2E-BD4A-A4E3836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55B1-0157-47AB-9700-59BB731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2E059-809A-4F29-94A6-6B2AA466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D2B0B-16EE-40C9-9088-88972F1B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85B37-257A-4CA2-9C6D-9C6572E6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B5E66-8AF2-4616-BA4D-457055E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1D043-C732-4603-836F-7E14A444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5C86F-516E-49AE-9ECB-FEAC746C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D8C0D-9F3D-4EDA-AEC7-E05D0106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4F253-5EC2-47CB-965C-5E50B6C2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6117B-C9DB-4088-836B-B23CC119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F0349-59D9-4040-9E83-854DBB00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757B-2978-48DE-8503-C580B38C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D4B50-93CB-4D74-91C0-21BC1364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8970E-6EF7-4C80-ADD7-A4A0C041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B9491-2B89-45F9-AA65-0A2F5808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F53A0-DD10-4D87-8155-A01BF88C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DF913-D35A-4D3B-8C48-CE6A0CC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50476-BFC6-4121-8857-2CE69EBF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EE471-8B7E-4E59-9DB5-85E1D06B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8481C-A341-4935-BDC9-AAEB9E5D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A9261-9B71-4AC7-9093-DB475D70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7F3D7-9D25-4BE9-BB57-CB743F0D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D6BE-ED42-4018-9320-74B8186E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3FDD6-490D-478F-81DA-1B95B9F7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FF14F-8C3B-47D9-9F43-7E3A97BA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3B49A-29C4-42B1-9CF5-4D3E2107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6D49D-1CCE-4591-979A-FF93FBA4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D719B-F671-4C6A-8EC1-63B9EE8A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C5EA4-CDF5-4123-9B48-D13C137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E463D-4D0B-4DB2-90FD-E68D7B5C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85709-2CA3-4604-B015-D629E78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C277A-0E4E-494F-83DF-19B6DA83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719C8-FF6E-4A62-9BC8-018A2DA4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727F-85DA-48C6-8B41-B86AAC2C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D5056-44BB-40F5-8922-30913123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2A456-F962-4A3A-A270-0FA86E9D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23B35-E07F-4334-96FF-6F818BAB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3C9C2-C81C-4372-8741-0FF2005E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1DD43-46B8-4490-9197-44F232E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49A80-41DC-4102-80AA-C0B6D549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3AFB3-CD7B-468A-A7F3-2DFBD775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554F8-65CF-4A24-AA76-BC1DCD0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8BF82-0C8B-4D2D-9D1F-83DA66BF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D148A-1EC1-4C35-B086-263DD4E2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3DA7-011B-4976-A50E-DA96E39B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F8938B-E773-4627-AC9C-2D82B3EF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186C1-E0BF-4B03-A8F2-7343046B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8B966-355C-4E4F-B113-EC8D5748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536D6-CC2E-4269-A581-6425ABE5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424DE-53CD-47A2-80F0-C603A745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2C5BB-0E33-4297-9961-4E756B31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1DC7A-5F2A-49D2-8835-9DA15AC7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E5BE7-1BEA-448F-8410-41D539D9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38C76-743C-48D0-86EE-980EDF33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29A98-A4A8-4DA8-920E-8EBFF21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7C2-D11F-4CF8-B6FA-95CCECDC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1B84-17AD-44F2-A0C5-53C7CBA7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341E3-F1DD-4407-9E1B-B9792EFE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DCA9A-423A-4BEF-825C-BE7168B3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5D031C-C78F-4596-B38A-9B040216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3D3B5-5ADD-4E47-83C1-C966DB51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0FB9C-3FC9-4134-8DDA-63FBF8F9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F6562-FE82-4F6A-802B-054BCD8D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70927-0D81-4CAF-BEA5-6305CB01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1C852-3BFC-4602-BFB5-3C90138B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B28F9-94BD-4E2C-9827-33D784F9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D4DFB-61BB-47DC-8200-CA6DAA66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8D50-B00A-48BF-9E4D-CA97DC3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C1839-5ABF-4566-96D4-4350184F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C4599-FC9F-43F5-ABB5-6C4E96DC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8F7E3-429E-403A-AA34-48765CB3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309DC-6F03-4E69-BFEF-24736817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E69C5-9B6C-441C-9A98-CAE8F6DE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BA401-89F9-4DF7-AA93-FF136A97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7362E-3B15-4643-924A-2ED2D8E0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961DB4-83E1-4A2C-80E5-CADFE74B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EABE8-AACE-4716-A1F7-EAAF29B4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44A01-9EEA-494E-B8D9-D580090B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11F1-4D0A-4F15-8FC4-F7C5411E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98919-2B8B-42C6-926F-6EA4998C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0D5CC-FA1D-4B11-891A-2C1F68C2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A468B0-BBA3-4DB8-B375-CC113FE0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EF3340-E5BF-4BEE-A146-C0F9586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71237F-D7B8-4A43-9925-D078B6E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9B1B9-3355-40F7-AAE4-1AABAE5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196D81-B645-4086-AE8A-A538A6BA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4A182-E4D1-4170-8615-5D2CA9E9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85983-5113-4602-9C5B-EA1F8253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B40A6-3F8F-43DA-8602-28DEE138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0AE3-5BDA-427C-8E67-69D9A542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3F020-3FBA-4E1D-B78D-85264FAE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75C54-A375-4409-AA42-95901E7E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C3E2B-E881-42CB-A020-C921EE1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F40CB-3BF7-4D0E-A544-998B6917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C59C9-863A-4299-8A57-9BD4B27F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E58A4-D273-48CA-BFB3-1E6B5223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6CE14-30F5-42FF-A182-BAA37A52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6CAC3-1A6F-4F6F-A103-099FF154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2C413-371B-41D4-8885-A5CE10E6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C3FC7-8234-4BEE-81CC-4B217649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5E46-03BF-495E-ACE1-DC546E7E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9971A-B17B-41E4-8AAC-F5DA89FF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573E87-0356-45AA-833B-A45D9943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9CCE0-ACD5-4283-8CA5-5637AE91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D8B5A-5433-4CD6-9198-9879EC29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9474A-C0C5-4DD5-A43E-929DB1C2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7A9D9-3293-48BA-9F44-F9C222A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F226C-2F45-4622-86F6-5D6FACC2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2CE861-2D21-4A9D-A73C-16A69A2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D3B870-C4D6-403A-916B-6D33E3C0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352158-4B40-44E5-B31E-60C27CA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79F0-1CA8-48EC-BFB2-8F0F0F07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192E85-24D6-4B77-B7AE-36838E5F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13B872-DF02-4B89-8619-A0F62CB6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C4173-412C-45BE-9A47-2BC81B3B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B2D7-41F0-4FA2-ABB4-12E807F0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928E-BCFB-4C1C-A4D3-0842A9AE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6536-0F8A-4123-B3BB-AD0356C2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C2BD-DE00-4134-BC6D-8F83948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E5D-1D6C-4AF6-86A9-815BEC35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AB8AA-5BF8-434F-87B9-C02BF95A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F2BE-DD33-4901-B4D2-30602815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57B8-A5D1-42C4-B628-FBF5499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78AE-5575-46FD-88E8-AACEC75F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9B59-C39A-4EAC-BBE7-D995768C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6FB2-0D41-47F9-B4E5-FEB114C2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C733-F182-4DED-A585-D3264443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DB297-7639-4A1C-BC94-7D31A985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1FA0-1566-4CCE-9A79-E44E01C2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EA7E-C8D5-46D9-BF47-B18209E9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D67-9696-4536-96FF-7ACEDE2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BF68D-0E1E-4C30-BC16-80D30FF7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40631-9548-4B93-AAC6-494C6EE3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3C67-F72A-4DC7-98EB-2F51A91E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00A98-30F2-4FBA-B11B-1830D89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94F91-1CAB-4AA0-B022-6BCA8C8C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888A-803D-433B-AFDC-8CC41410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767F-B212-47AD-A990-41577904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7781-7653-4591-8712-385A386C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224B-B69E-4B07-95ED-F4002480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24ED-5078-45E3-9BAD-147D1673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679-93CA-4862-85E0-A22E82A1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F5D1F-C853-40B7-919C-FCC7D01A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4E407-3251-403D-8761-F21A8C7E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6106-494C-488F-A8A4-BD6A1EB1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74AE-4307-4E39-BB37-2F3BBD6D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A93D4-3651-4EE8-9B86-89ABBA9F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0B97-FEEF-468D-B305-A89C2C56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ABD81-DE31-4557-B5C6-CF5BA278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3148-A1C2-48B7-A20F-2FE21546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1AD1B-A022-4DB8-A002-FCF68A09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38871-07D0-4CC5-854B-E377C6E8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430-C939-415A-AA87-A6DFC22F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A8C40-1DCC-4BDD-A5C7-094C886C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1BF33-86DE-401E-8238-DDCC376C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5A56A-2344-4376-84B4-5D973A07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E281-26F9-48AD-96CB-4F4DD532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76848-D83E-470F-B816-D0ACFDCD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77B1-8716-419F-8BF0-AF2B77E5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F0374-9FE4-43E1-9B85-E38F8283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8269B-23F9-4039-AF82-F9A0E4F2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C589-E249-4868-B40D-3E9098D7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FB8E-0127-4255-9288-C2595EF9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F2F-6118-4472-B81E-E45AF2D5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ABFC4-4D15-4253-B208-1AC2CB44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13ED1-6AAA-4751-A83D-8987DD65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B4F1E-49B8-4770-9AC4-62056D4A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4955-13EC-45B6-8684-5F5F6C8A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9C652-B557-4EF5-A5A0-F19F6CFE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19321-333E-4B11-B04F-D49EC876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958B8-CE34-4569-B94D-F7E6A1F9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B963-4AD5-4A7D-9417-8E9A11F2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038C9-342E-4D71-87F4-0AEECED3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B3D5-DD51-40C3-B2D8-962203FD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719-D2D8-4D81-BA70-33BA220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4FF8F-6C8B-4EEF-B811-53D27033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1CFC8-604B-4CD6-A630-3CBDA8A2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E47BA-86F7-4C97-9734-3D4CE1CE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F70D0-3362-4121-96D9-081EFE9C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3E99-9E1F-455E-8C12-4B78553A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43B34-0A62-4A49-8729-E2A9DC3B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179C2-8FDB-485A-9A7B-D975D671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1B179-3F96-4E87-AC85-E4EC19D7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CACEF-87C5-44AB-9ED5-9C734DEF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EC3C4-5E9E-4F1E-9AC1-5C436D7D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979-B8F0-4DE9-A014-59D35CC9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C91E5-D6A6-474D-8150-A7634B4C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12745-4530-4AFB-9849-DD6E2958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B152C-545F-4959-B8FE-DA02DB9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39CD1-2D7C-45AB-9561-79ED3FD8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B8B38-F529-4C3E-8C71-7F0185BC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BDF0E-9813-428B-9D87-1A3C8852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9A9CA-EE8A-4F4F-A1C3-2901A71C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152AF-6E57-419E-89E2-32DD01F8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B3408-93B4-4482-A050-C30AB303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09716-F52F-4848-A0A5-ADA3698D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DEB4-1098-470A-8571-45801DC2F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0063-4542-4C58-A56E-8484EDFA7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D90-6BF2-41B7-9F94-BFB5693BE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8DF2-BEA0-4F05-B7A7-E9E5CBBAC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D58B-B13A-447A-A19A-B6E0C7DC75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7D6E-7393-4A43-B586-6F21B802A4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F6BE-9445-4F86-AC0E-07206E22B8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D56D-BE3E-4E1C-97F1-F3D588BF99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FFA5-B5C7-4758-A23A-2B0D6C90F5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A872-238C-4B39-8381-352822423C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9BDC-5165-4BC2-9BB0-446CFD6411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AE91-DCDF-4D4A-8836-E78B9689D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11FB-AC4E-4A39-9C35-022D22413D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F513-76D9-4421-BC4C-246E13305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7C67-E9CB-4864-8499-04451D6EF5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1CFE-765D-42EF-B5E8-4924B764E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CC34-8090-470A-83B3-54C2EFCB7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C919-0623-4086-BF05-28F56F77B5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A26E-3F41-4072-87B3-2741BAE592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D16B-9DA9-4863-A896-4842FF308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34EF-8D74-4308-81E9-CF5FF8176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8B6E-28CC-484F-AB29-A89638CC6D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8BB5-FF26-4924-9D13-1A7D6FD2F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12AC-AC0A-48A3-97B7-5763AA1BB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C55F-E1F3-459D-B64A-A87666070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DCF0-17D7-49E3-8244-3976B04F90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B2D6-7D84-4BD0-AEB5-25D606C052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C226-31AE-4FB8-98F6-B710CC9F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95EB-74C5-47DE-8565-BFE41F24B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316E-B9EE-4844-B1DE-0732EB395D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F6D3-8B55-4DB5-860D-19FED9A4D2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EF63-D2A0-46FE-8CE6-5B63F282D8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7E7F-48A4-48FB-8350-56774C3863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1F85-DDE3-4DE1-930E-5AFC57412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665F-FE08-4763-9B13-3422A297BA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ED7C-4008-450E-900B-8C4720B2A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6172-BD92-4D5C-B809-4922766640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D2A4-1C87-420F-9C9C-7EAA089996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6A9E-96A3-4E66-8716-E2441BF1C1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31F0-EF5A-4DC0-8ECD-C3C6035430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765440" y="3257640"/>
            <a:ext cx="50925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19160" y="1042920"/>
            <a:ext cx="8905680" cy="5457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928800" y="3571920"/>
            <a:ext cx="241200" cy="2872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2571840" y="3500280"/>
            <a:ext cx="357120" cy="287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3857760" y="314316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5429160" y="321480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5286240" y="350028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6715080" y="342900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8358120" y="342900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8072280" y="3786120"/>
            <a:ext cx="357480" cy="287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1500120" y="5786280"/>
            <a:ext cx="243000" cy="2876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3143160" y="5786280"/>
            <a:ext cx="243000" cy="287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2714760" y="6072120"/>
            <a:ext cx="928440" cy="287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6715080" y="5786280"/>
            <a:ext cx="243000" cy="287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5857920" y="6143760"/>
            <a:ext cx="243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1" descr=""/>
          <p:cNvPicPr/>
          <p:nvPr/>
        </p:nvPicPr>
        <p:blipFill>
          <a:blip r:embed="rId1"/>
          <a:stretch/>
        </p:blipFill>
        <p:spPr>
          <a:xfrm>
            <a:off x="623880" y="1109520"/>
            <a:ext cx="7896240" cy="4962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2"/>
          <a:stretch/>
        </p:blipFill>
        <p:spPr>
          <a:xfrm>
            <a:off x="3000240" y="157176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3"/>
          <a:stretch/>
        </p:blipFill>
        <p:spPr>
          <a:xfrm>
            <a:off x="4572000" y="157176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4"/>
          <a:stretch/>
        </p:blipFill>
        <p:spPr>
          <a:xfrm>
            <a:off x="3929040" y="192888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5"/>
          <a:stretch/>
        </p:blipFill>
        <p:spPr>
          <a:xfrm>
            <a:off x="3000240" y="2286000"/>
            <a:ext cx="357480" cy="287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6"/>
          <a:stretch/>
        </p:blipFill>
        <p:spPr>
          <a:xfrm>
            <a:off x="5500800" y="2232000"/>
            <a:ext cx="428400" cy="28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7"/>
          <a:stretch/>
        </p:blipFill>
        <p:spPr>
          <a:xfrm>
            <a:off x="1643040" y="264312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8"/>
          <a:stretch/>
        </p:blipFill>
        <p:spPr>
          <a:xfrm>
            <a:off x="3286080" y="264312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3" descr=""/>
          <p:cNvPicPr/>
          <p:nvPr/>
        </p:nvPicPr>
        <p:blipFill>
          <a:blip r:embed="rId9"/>
          <a:stretch/>
        </p:blipFill>
        <p:spPr>
          <a:xfrm>
            <a:off x="2054160" y="4017960"/>
            <a:ext cx="6572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1" descr=""/>
          <p:cNvPicPr/>
          <p:nvPr/>
        </p:nvPicPr>
        <p:blipFill>
          <a:blip r:embed="rId1"/>
          <a:stretch/>
        </p:blipFill>
        <p:spPr>
          <a:xfrm>
            <a:off x="909720" y="2405160"/>
            <a:ext cx="7305480" cy="2047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2"/>
          <a:stretch/>
        </p:blipFill>
        <p:spPr>
          <a:xfrm>
            <a:off x="5357880" y="4046400"/>
            <a:ext cx="500040" cy="2667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3"/>
          <a:stretch/>
        </p:blipFill>
        <p:spPr>
          <a:xfrm>
            <a:off x="7126200" y="4054320"/>
            <a:ext cx="500040" cy="2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6:23:57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